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F0E-87E5-4367-8327-DB4AE2D6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775-CA2D-4AB1-9208-C9FE1483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270-3D74-4800-965B-796263C3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30A-D5F0-41CE-9B3E-13A86BCC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BA20-5583-48D6-9711-0B2547EE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C8A5-E718-4BC8-A332-44B245B1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E071-7E12-498D-A5A3-27206DDB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0CAE-56DD-4FC7-B4D6-AA5205B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8D3C-CC61-4709-83D4-1B1FA7D6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25E7-C62F-479C-A208-185F92AD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1303-3A7A-442F-816B-399D645B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E62-ACA0-46A5-8DF6-A824720E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627-6562-4605-B86B-7D89DE3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1FB0-0D34-42C1-9491-26BD1A07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DC79-9384-421B-BF36-525E7D31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323-14D3-4381-A2C7-7858B1C7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3E19-84D4-46D2-BC84-6C596514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7B38-C960-40F5-AA31-F63951B8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F8FE-111A-4639-B62D-D3D085F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FE32-02DF-40BB-8C6F-D1125A5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5827-9722-44B4-9A5B-DC229168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382E-9315-42E1-9CA7-90C0AB89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0DE-F9A6-4B45-9E6E-9B48EBA2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DAD7-83BE-4936-910E-F301341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C1A2-A38C-4396-928E-93CBBC5B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F965-2995-438C-A65B-894EE2FA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CD50-A45F-4277-B2A7-29AD8BF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C13A-8EA0-4D59-9E2B-9EFBF35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F24D-34A9-4D41-A5E4-5C9342E3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FF8B-A7BB-4047-9588-B0F69471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7C65-DB99-4204-9BC6-4EB4BFC2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541B-0589-4DD9-A6A1-C387442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6A5F-89EB-4A29-8A98-C8966F56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E29-7DF7-407E-83A0-CBF86D55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B33C-A216-4329-B6D8-7A41F39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25CC-A024-4FE3-AEC3-9C3CA357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EEE5-0047-4066-B25C-E99B2410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A1D8A-F229-411D-9247-6545FE8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13AA-A7B6-49B5-ABF6-59EC7F6E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CD90-6E43-4C1E-8F88-C8A5FFD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C641-CF10-4F19-B5AD-FABD55E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C5561-E07C-4AE7-A655-02FC2169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9259-610C-4633-9684-4DE5AFE7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ED634-F52C-48F8-BFB2-3AB674CD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61C-5499-42E6-A688-46154411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D8D0-11D1-4264-A217-F2D91961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04743-2880-49CA-A5A0-3E209C4F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E0176-360D-4AFB-86DE-1FFFFD4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9975-FC63-435B-9061-1DFBB50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0A8A-F2AC-4668-A35A-203E19A2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8FE4-DB07-4892-915F-EFD93B55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7239-55E6-4F58-9A39-9936AC0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AF581-D3A2-497C-8EC2-9C3DFAE2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14F48-DE5E-4589-99D3-C9A6FB4C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EBC9-1A9F-4452-841B-5C5922DB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B3D-0185-427D-A6DB-A8D75A3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31436-A23C-404C-B0AF-D026A6EF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E9EE9-4CC5-4AA9-8C33-414B140B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71B61-8341-4A5B-882F-908198C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7B740-ADDE-45E7-883D-CC1BC59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F7CB-24B0-43D9-9AC6-1204469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3B16-3DF7-4DD2-A6DD-A0EFA84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F3F81-236B-41DF-AD64-9FB0CE86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F904-F347-4B1C-A89D-105296B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1700-5E5E-46D2-B224-AE27D47C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0AD4-368C-4547-B859-2A6BA44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6C9-C00A-413E-A1CF-90BD5A4A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FD70-9E26-4714-8CB8-5614B82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6AB3C-46A1-400E-9354-CBAC9D39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AFC6-C8AE-4289-ADFE-A438B662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B97C8-3489-4010-B5B0-0635D0BE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74241-08E3-41A3-AA84-DDF3BFB6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967D1-13B4-430F-9B4B-203BF9B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D0CE-D159-46C7-8947-A371F326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EF78-F58F-4662-8C27-9A4BA38C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B873-48DD-4E6C-B6BC-23027BE6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17515-3BDD-4DFA-B4E9-18A68361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887-82A4-4553-B029-81C33E5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67AA-1C03-431C-9C32-CB373A28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1DF9C-CE19-4D9C-9DB6-14AB5AF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81E0-C69F-40C0-BCDE-368EE16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8B138-E09E-4158-A1E6-D1A385F1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41E1-1AFF-41C9-BD76-8462B33D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B903B-C8A4-486A-8BEB-882ACB94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EA57A-3FDC-4DC4-B7D8-1A2FE9EE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9CE94-1ED6-42C3-BB21-71B0BFE7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DD6D4-D5CE-4008-822B-6D0514C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BFBF5-DDA7-4EBB-A4B8-AF1610E2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244-52C1-4B30-90FD-BE34E79B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7A59-876D-4993-AF67-1C8DBDB4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E17F2-C013-4402-B541-B22922C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6AE1-CBA2-40E7-AFB6-886DB925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22286-A3BD-4EC6-9A14-34C2CCA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9C50F-9728-4509-B8B8-2AF3B432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9A23A-C775-4586-A211-4B1B3632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4B2DF-9325-4BD5-8A4E-E471F50E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631-D539-4F3A-8CA8-B9EAB7BFCA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6102-FF84-40CC-9027-B2BC8B046C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2AB0-C6CE-4274-9A5E-DE94E85FED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85D-3669-4345-8AD6-CB1CB6DB2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7CE-A1D6-4470-96BA-F53AA3BF8A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E5C9-D8F2-4D1E-A196-ED90F27F7F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C49A-8FEB-4F33-A7E9-B9C371CD99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BE90-A5AE-464E-97C5-1FE5ACAE7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28240" y="1856880"/>
            <a:ext cx="86295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7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RB’S EXPERIENCE ON CAPACITY BUILDING OF LOCAL CONTRAC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1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30</a:t>
            </a:r>
            <a:r>
              <a:rPr b="1" i="1" lang="en-ZA" sz="2400" spc="-1" strike="noStrike" baseline="30000">
                <a:solidFill>
                  <a:srgbClr val="000000"/>
                </a:solidFill>
                <a:latin typeface="Garamond"/>
                <a:ea typeface="Times New Roman"/>
              </a:rPr>
              <a:t>th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March, 2023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resenter: 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. Jere; Assistant Registrar – 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1" i="1" lang="en-ZA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search   and Develop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1840" y="444600"/>
            <a:ext cx="8485200" cy="1268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3286080" y="2654280"/>
            <a:ext cx="27115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Study Tours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re than 8 countries with more advanced construction industries worldwide visi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Usually few contractors participate in study tours due relatively higher costs of particip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In recent years, study tours abroad affected by covid-19 related restriction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JOINT VENTURES &amp; DISPENSATION:-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Aimed at enabling local contractors to access projects above their thresholds, within the law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At least 1 JV training conducted annuall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For the year 2022, some 35 JV projects worth a total of TZS 96.3 bn were registered by local contractors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For the year 2022, some 26 dispensation projects worth TZS 41.9bn were register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600" spc="-1" strike="noStrike">
                <a:solidFill>
                  <a:srgbClr val="000000"/>
                </a:solidFill>
                <a:latin typeface="Garamond"/>
              </a:rPr>
              <a:t>Some JVs are only bidding vehicles, project implementation is done single-handedl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600" spc="-1" strike="noStrike">
                <a:solidFill>
                  <a:srgbClr val="000000"/>
                </a:solidFill>
                <a:latin typeface="Garamond"/>
              </a:rPr>
              <a:t>There is perception among some contractors and some employers that JVs do not perform in projects</a:t>
            </a:r>
            <a:r>
              <a:rPr b="0" lang="en-ZA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Garamond"/>
              </a:rPr>
              <a:t>Consultative meetings, Workshops and Conferences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Feedback from stakeholders that assist the Board to improve its performance, establishment and improvement of initiativ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Important fora for identification and discussion of challenges facing contractors and the industry and finding solu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Important fora for the Government to identify issues in the industry and find ways to address th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Most of the Board’s initiatives can be attributed to AC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ome improvements toward a more conducive environment result from these meeting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liberate Capacity Building Efforts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imed at enabling local contractors to access, execute and gain experience in implementation of large projects through stakeholders engag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Board leadership conduct visits to major employers to create awareness on importance of providing work opportunities especially high value projects to local contrac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 employers have been positive; the Govt. has set aside 2 projects (road upgrading to bitumen) for capacity build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Deliberate Efforts by the Government and other stakehold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Government should Trust Local contractors and deliberately build their capacity;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Whenever possible, Public employers should use the services of local contractors.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loyers should observe provisions that create conducive environment for contractors’ growth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bserve local exclusivi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or Government funded projects worth not more than TZS 10bn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t aside special projects for capacity building of local contractors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mplementation should include a training and mentorship compon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ly,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se contractors’ servi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Force account should be used only when it is necessary like in case of emergencies, very small projects, client confidentiality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Deliberate Efforts 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ffective preparations of projects;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mployers should ensure that tender documents; conditions, specifications, drawings etc. are well prepared as this will enable contractors to bid competitively and implement the projects efficient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loyers should fulfill their Contractual obligations;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mployers should ensure a project is well supervised and that contractors are timely paid. It is the Employer</a:t>
            </a:r>
            <a:r>
              <a:rPr b="0" lang="ja-JP" sz="28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 obligation to fund his/her projec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ployers should choose options that provide relief in costs to contractor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enever the project value is not more than TZS 10bn, specify the use of bid securing declaration instead of other forms of bid secur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enever possible, specify the use of insurance bond instead of bank guarantee (for bid and performance security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28240" y="1142640"/>
            <a:ext cx="8629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ontractors’ effor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ontractors should fulfill their Contractual obligations;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Contractor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committed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and ensure that all inputs required for the project, e.g. personnel, plant and equipment, funds, etc are deployed for the projects.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Use of professionals’ services is insisted.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ontractors should use Joint Ventures;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formation of strategic alliances to qualify to bid and execute high value projects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240" y="928800"/>
            <a:ext cx="86295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CRB Capacity Building manda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CRB Capacity Building Initiativ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commendations on what should be done by different stakeholders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Board Establishment and capacity building mand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Local Contractor Development is among the Board’s main function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8040" indent="-21024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At the Board’s establishment in 1997, the three main Board functions were registration, enforcement of contractors’ activities and conduct and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Garamond"/>
              </a:rPr>
              <a:t>development of local contractors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RB initiatives aim at improving local contractors’ competence and capac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8040" indent="-21024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Ability to undertake projects effectively, successfully and efficientl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8040" indent="-21024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Timely delivery, specified quality, compliance and anticipated profi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dentification of factors hindering growt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onducting Research/studies in different area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6040" indent="-2538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e.g Study on Construction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Plant &amp;  Equipment Availability, Skills problems, OHS compliance, application of affirmative legislation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Collection and analysis of data and information from different sources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6040" indent="-25380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e.g. Annual Return forms, project registration, stakeholders consultative meetings, conferences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dentified challenges facing local contrac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adequate financial capacity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Inability to access financial opportunities, inadequate capacity to own or access equipment hire services, inability to access the services of technical and management skill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adequate construction business skills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Inability to bid competitively, inadequate project and contract manage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adequate conducive environment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Several challenges posed by the legislative structure and or stakeholders’ condu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Initiatives to address the identified challenges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Financial skills enhancement and supp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Enhancement of project and contract management sk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Enhancement of skills and support to access work opportunities and creation of a more conducive growth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77720" indent="-193680">
              <a:lnSpc>
                <a:spcPct val="90000"/>
              </a:lnSpc>
              <a:spcBef>
                <a:spcPts val="374"/>
              </a:spcBef>
              <a:buClr>
                <a:srgbClr val="eb641b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CONTRACTORS ASSISTANCE FUND (CAF)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Aimed at enabling contractors to access and undertake projects (est. 2002, growing) through provision of bank guarantees for bid and advance payment security 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Has been improved to enable local contractors of any class to access CAF services and max. guarantee has been raised to TZS 100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CAF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At a TZS 4 bn capital, in the year 2022, CAF guaranteed some 236 projects worth a total of TZS 129. 95bn supporting the contractors for advance payment of a total of TZS 14.78b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800" spc="-1" strike="noStrike">
                <a:solidFill>
                  <a:srgbClr val="000000"/>
                </a:solidFill>
                <a:latin typeface="Garamond"/>
              </a:rPr>
              <a:t>Inadequate guarantee amount and inability to cater for performance guarante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800" spc="-1" strike="noStrike">
                <a:solidFill>
                  <a:srgbClr val="000000"/>
                </a:solidFill>
                <a:latin typeface="Garamond"/>
              </a:rPr>
              <a:t>Cases of default have been experienced, 4 cases</a:t>
            </a: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51640" indent="-176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ZA" sz="2800" spc="-1" strike="noStrike">
                <a:solidFill>
                  <a:srgbClr val="000000"/>
                </a:solidFill>
                <a:latin typeface="Garamond"/>
              </a:rPr>
              <a:t>TRAINING:-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Training to enhance contractors’ technical and business skills and exposure to best practic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ustainable Structured Training Programme (SSTP) est. 2001with more than 20 training modul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Garamond"/>
              </a:rPr>
              <a:t>Reviewed periodically to ensure its relevance; improved from KBET to CBET, increased Board subsidy, reduced training duration from 5 to 3 days, et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 average of 4 to 6 courses conducted annu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ome contractors do not attend trainings or do not send representatives strategic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ome contractors do not practice what they lear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pecialised training on topical issues; Joint Ventures, Design-Build, FIDIC conditions of contract, TANEP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i="1" lang="en-ZA" sz="2400" spc="-1" strike="noStrike">
                <a:solidFill>
                  <a:srgbClr val="000000"/>
                </a:solidFill>
                <a:latin typeface="Garamond"/>
              </a:rPr>
              <a:t>Addresses emerging training needs</a:t>
            </a: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1640" indent="-1760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28240" y="785520"/>
            <a:ext cx="86295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ZA" sz="2800" spc="-1" strike="noStrike">
                <a:solidFill>
                  <a:srgbClr val="000000"/>
                </a:solidFill>
                <a:latin typeface="Garamond"/>
              </a:rPr>
              <a:t>TRAINING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aramond"/>
              </a:rPr>
              <a:t>Specialised training on topical issues; Joint Ventures, Design-Build, FIDIC conditions of contract, TANEP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Garamond"/>
              </a:rPr>
              <a:t>Addresses emerging training nee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pecial courses conducted as needs ari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udy Tours/visi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imed at exposing contractors to new and modern construction and management techniques and technolog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Enables contractors to establish business networks with fellow contractors, suppliers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852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7:58:56Z</dcterms:created>
  <dc:creator>Mr Joe Malongo</dc:creator>
  <dc:description/>
  <dc:language>en-US</dc:language>
  <cp:lastModifiedBy>David Jere</cp:lastModifiedBy>
  <dcterms:modified xsi:type="dcterms:W3CDTF">2023-03-29T20:31:01Z</dcterms:modified>
  <cp:revision>1195</cp:revision>
  <dc:subject/>
  <dc:title>Baseline Study on Labour Practices in Tanzania</dc:title>
</cp:coreProperties>
</file>